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Бионеорганска хемија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Гордана П. Радић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loud Callout 3"/>
          <p:cNvSpPr/>
          <p:nvPr/>
        </p:nvSpPr>
        <p:spPr>
          <a:xfrm>
            <a:off x="0" y="785880"/>
            <a:ext cx="4214880" cy="17143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размене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4071960" y="2000160"/>
            <a:ext cx="4857840" cy="2857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 јасно дефинисаних ступњ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пролази само кроз једно </a:t>
            </a:r>
            <a:br>
              <a:rPr sz="1600"/>
            </a:b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релазно ст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константа брзине зависи о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е улазног лиганда онда је процес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1" lang="sr-Latn-C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дисоцијативног дела онда је процес </a:t>
            </a:r>
            <a:br>
              <a:rPr sz="1600"/>
            </a:b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размене</a:t>
            </a:r>
            <a:r>
              <a:rPr b="0" lang="sr-Latn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sr-Latn-C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Horizontal Scroll 5"/>
          <p:cNvSpPr/>
          <p:nvPr/>
        </p:nvSpPr>
        <p:spPr>
          <a:xfrm>
            <a:off x="214200" y="4643280"/>
            <a:ext cx="7715520" cy="2357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X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 Y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→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X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Y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 [MX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]X   →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MX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]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+  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ircular Arrow 6"/>
          <p:cNvSpPr/>
          <p:nvPr/>
        </p:nvSpPr>
        <p:spPr>
          <a:xfrm rot="2311800">
            <a:off x="3458880" y="934920"/>
            <a:ext cx="1643040" cy="1357560"/>
          </a:xfrm>
          <a:custGeom>
            <a:avLst/>
            <a:gdLst>
              <a:gd name="textAreaLeft" fmla="*/ 300600 w 1643040"/>
              <a:gd name="textAreaRight" fmla="*/ 1342440 w 1643040"/>
              <a:gd name="textAreaTop" fmla="*/ 258840 h 1357560"/>
              <a:gd name="textAreaBottom" fmla="*/ 1098720 h 1357560"/>
            </a:gdLst>
            <a:ahLst/>
            <a:rect l="textAreaLeft" t="textAreaTop" r="textAreaRight" b="textAreaBottom"/>
            <a:pathLst>
              <a:path w="1643062" h="1357312">
                <a:moveTo>
                  <a:pt x="84832" y="678655"/>
                </a:moveTo>
                <a:lnTo>
                  <a:pt x="84832" y="678655"/>
                </a:lnTo>
                <a:arcTo wR="736699" hR="593824" stAng="-10799995" swAng="9805223"/>
                <a:lnTo>
                  <a:pt x="1587430" y="472907"/>
                </a:lnTo>
                <a:lnTo>
                  <a:pt x="1473398" y="678657"/>
                </a:lnTo>
                <a:lnTo>
                  <a:pt x="1248102" y="472907"/>
                </a:lnTo>
                <a:lnTo>
                  <a:pt x="1317387" y="472907"/>
                </a:lnTo>
                <a:lnTo>
                  <a:pt x="1317387" y="472907"/>
                </a:lnTo>
                <a:arcTo wR="567035" hR="424160" stAng="-1352114" swAng="-9447886"/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urved Right Arrow 7"/>
          <p:cNvSpPr/>
          <p:nvPr/>
        </p:nvSpPr>
        <p:spPr>
          <a:xfrm rot="1697400">
            <a:off x="2908080" y="2755440"/>
            <a:ext cx="726840" cy="2203560"/>
          </a:xfrm>
          <a:custGeom>
            <a:avLst/>
            <a:gdLst>
              <a:gd name="textAreaLeft" fmla="*/ 97200 w 726840"/>
              <a:gd name="textAreaRight" fmla="*/ 629640 w 726840"/>
              <a:gd name="textAreaTop" fmla="*/ 482760 h 2203560"/>
              <a:gd name="textAreaBottom" fmla="*/ 1630080 h 220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64" stAng="-5400000" swAng="-5400000"/>
                <a:lnTo>
                  <a:pt x="0" y="11246"/>
                </a:lnTo>
                <a:arcTo wR="21600" hR="9464" stAng="10800000" swAng="-3569280"/>
                <a:lnTo>
                  <a:pt x="16200" y="21299"/>
                </a:lnTo>
                <a:lnTo>
                  <a:pt x="21600" y="19818"/>
                </a:lnTo>
                <a:lnTo>
                  <a:pt x="16200" y="17735"/>
                </a:lnTo>
                <a:lnTo>
                  <a:pt x="16200" y="18626"/>
                </a:lnTo>
                <a:arcTo wR="21600" hR="9464" stAng="7230720" swAng="3426922"/>
                <a:lnTo>
                  <a:pt x="96" y="10354"/>
                </a:lnTo>
                <a:arcTo wR="21600" hR="9464" stAng="-10657642" swAng="5257642"/>
                <a:close/>
              </a:path>
              <a:path fill="darkenLess" w="21600" h="21600">
                <a:moveTo>
                  <a:pt x="21600" y="0"/>
                </a:moveTo>
                <a:arcTo wR="21600" hR="9464" stAng="-5400000" swAng="-5400000"/>
                <a:lnTo>
                  <a:pt x="0" y="9464"/>
                </a:lnTo>
                <a:arcTo wR="21600" hR="9464" stAng="10800000" swAng="-142358"/>
                <a:lnTo>
                  <a:pt x="96" y="10354"/>
                </a:lnTo>
                <a:arcTo wR="21600" hR="9464" stAng="-10657642" swAng="5257642"/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размене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337440" cy="4746600"/>
          </a:xfrm>
          <a:prstGeom prst="rect">
            <a:avLst/>
          </a:prstGeom>
          <a:ln w="0">
            <a:noFill/>
          </a:ln>
        </p:spPr>
      </p:pic>
      <p:sp>
        <p:nvSpPr>
          <p:cNvPr id="74" name="Rounded Rectangle 4"/>
          <p:cNvSpPr/>
          <p:nvPr/>
        </p:nvSpPr>
        <p:spPr>
          <a:xfrm>
            <a:off x="2411280" y="5950080"/>
            <a:ext cx="9144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5580000" y="5950080"/>
            <a:ext cx="9144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итуција код квадратно-планарних 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857240"/>
            <a:ext cx="822960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супституције код квадратно-планарних комплекса се најчешће врши пр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оцијативном процесу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у размене асоцијативног типа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sr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ове врсте комплекса асоцијативни процес се одвија на два нач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ом супституциј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волитичком супституциј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746280" y="1515960"/>
          <a:ext cx="7683480" cy="48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1515960"/>
                    <a:ext cx="768348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Box 4"/>
          <p:cNvSpPr/>
          <p:nvPr/>
        </p:nvSpPr>
        <p:spPr>
          <a:xfrm>
            <a:off x="578520" y="10000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а супститу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718920" y="62866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волитичка супститу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оку супституције интермедијери често пролазе кроз неколико геометријских струк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2"/>
          <p:cNvGraphicFramePr/>
          <p:nvPr/>
        </p:nvGraphicFramePr>
        <p:xfrm>
          <a:off x="571680" y="3143160"/>
          <a:ext cx="772308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3143160"/>
                    <a:ext cx="77230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квадратно-планарних комплекса брзина супституције може зависи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рироде сталних лиган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оложаја сталних лиганада у односу на одлазећи лига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ан утицај може имати онај стални лиганд који се налази 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ложају у односу на одлазећи лиганд. Такав утицај назива се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-ефек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чина trans-ефекта зависи од поларизационе способности лиг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могућности да гради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цепторске везе процесом повратне дона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 зависи и од позитивног и негативног индуктивног ефекта сталног лиган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тални лиганд утиче само на дужину везе метал-одлазећи лиганд (при томе одлазећи лиганд и даље остаје у саставу комплекса) онда уместо појм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фекат користимо израз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тицај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м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тицај се односи на термодинамички приступ разматрања реакција супституц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ј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тицај сталног лиганда већи то је веза метал-одлазећи лиганд дуж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val 3" descr=""/>
          <p:cNvPicPr/>
          <p:nvPr/>
        </p:nvPicPr>
        <p:blipFill>
          <a:blip r:embed="rId1"/>
          <a:stretch/>
        </p:blipFill>
        <p:spPr>
          <a:xfrm>
            <a:off x="195120" y="1090440"/>
            <a:ext cx="8534520" cy="2122560"/>
          </a:xfrm>
          <a:prstGeom prst="rect">
            <a:avLst/>
          </a:prstGeom>
          <a:ln w="0">
            <a:noFill/>
          </a:ln>
        </p:spPr>
      </p:pic>
      <p:sp>
        <p:nvSpPr>
          <p:cNvPr id="89" name="Horizontal Scroll 4"/>
          <p:cNvSpPr/>
          <p:nvPr/>
        </p:nvSpPr>
        <p:spPr>
          <a:xfrm>
            <a:off x="1042920" y="3213000"/>
            <a:ext cx="7274160" cy="3168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N</a:t>
            </a:r>
            <a:r>
              <a:rPr b="0" lang="sr-Latn-R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PR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H</a:t>
            </a:r>
            <a:r>
              <a:rPr b="0" lang="sr-Latn-R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CH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R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SC(NH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C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R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NO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I</a:t>
            </a:r>
            <a:r>
              <a:rPr b="0" lang="sr-Latn-R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SCN</a:t>
            </a:r>
            <a:r>
              <a:rPr b="0" lang="sr-Latn-R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Br</a:t>
            </a:r>
            <a:r>
              <a:rPr b="0" lang="sr-Latn-R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~Cl</a:t>
            </a:r>
            <a:r>
              <a:rPr b="0" lang="sr-Latn-R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C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~ NH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~OH</a:t>
            </a:r>
            <a:r>
              <a:rPr b="0" lang="sr-Latn-R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~H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Vertical Scroll 5"/>
          <p:cNvSpPr/>
          <p:nvPr/>
        </p:nvSpPr>
        <p:spPr>
          <a:xfrm>
            <a:off x="900000" y="1413000"/>
            <a:ext cx="7344000" cy="41767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фекат сталних лиганада је знатно слабији па се при реакцијама синтезе комплексних једињења углавном корист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фек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еакције супституције лиганада у комплексима прелазних мет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итуција код октаедарских компл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ија се по сва три мех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оцијативни процес је најзаступљен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 су обрађене реакције киселе и базне катализе, реакције хидроли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одређивање механ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77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дисоцијативног механизма (D) спора реакција је кидање везе метал-лиганд (M-X) тако да овај процес одређује укупну брзину хемијске реак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ом случају константа брзине је првог реда јер зависи само од концентрације комплекса [M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] а концентрација и природа улазног лиганда (супституент) уопште не утиче на брзину реак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нуто, код асоцијативног механизма брзина хемијске реакције зависи и од концентрације металног комплекса, али и од концентрације улазног лиганда па је реакција другог ре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константе брзине хемијске реакције може се брзо и ефикасно разликовати дисоцијативни (D) од асоцијативног (A) механизма или механизма размене (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код изучавања неке супституционе реакције мења природа улазног лиганда и установи са да улазни лиганд не утиче на брзину хемијске реакције, онда се ради о дисоцијативном механизму (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одређивање механ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одређивање механ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77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природа улазног лиганда утиче на брзину хемијске реакције онда се ради о асоцијативном механизму (А) или механизму размене асоцијативног типа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ациони параметри, као што су ентропија активирања 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запремина активирања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који се добијају из утицаја температуре и притиска на константу брзине, најпоузданији су критеријуми за утврђивање механизма неке хемијске реак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ропија активирања 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је поуздан критеријум само уколико су солватационе промене у систему ма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одређивање механ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9280" y="1557000"/>
            <a:ext cx="8507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узданији критеријум за одређивање механизма неке хемијске реакције је запремина активирања 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мада се најчешће користе заје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а вредност ентропије активирања 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#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) и негативна вредност запремине активирања 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#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) указују на асоцијативни механизам (А) или процес размене асоцијативног типа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а вредност ентропије активирања 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#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) и позитивна вредност запремине активирања 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#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) указују на дисоцијативни механизам (D) или процес размене дисоцијативног типа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матски приказ различитих типова мех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>
            <a:lum contrast="30000"/>
          </a:blip>
          <a:srcRect l="0" t="0" r="-8226" b="0"/>
          <a:stretch/>
        </p:blipFill>
        <p:spPr>
          <a:xfrm>
            <a:off x="755640" y="2205000"/>
            <a:ext cx="8193240" cy="385776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le 3"/>
          <p:cNvSpPr/>
          <p:nvPr/>
        </p:nvSpPr>
        <p:spPr>
          <a:xfrm>
            <a:off x="1116000" y="2421000"/>
            <a:ext cx="10573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 ст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4"/>
          <p:cNvSpPr/>
          <p:nvPr/>
        </p:nvSpPr>
        <p:spPr>
          <a:xfrm>
            <a:off x="3780000" y="2492280"/>
            <a:ext cx="2295360" cy="424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но ст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супституције лиганада у комплексима прелазних ме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21436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супституције лиганада у комплексима метала су реакције код којих лиганд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упституент или улазни лиганд) истискује (супституише) лиганд Х (излазни лиганд) из координационе сфере централног металног атома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X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+    Y    →    [MX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]    + 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су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филне реакције супститу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143000"/>
            <a:ext cx="82296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електрофилне супституциј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којих метал М' бољи електрофил, бољи акцептор електрона истискује већ постојећи централни метални атом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+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'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→    [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'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 +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lowchart: Process 3"/>
          <p:cNvSpPr/>
          <p:nvPr/>
        </p:nvSpPr>
        <p:spPr>
          <a:xfrm>
            <a:off x="1571760" y="1285920"/>
            <a:ext cx="5857920" cy="1428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пституције лиганад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еакције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филне супститу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loud Callout 4"/>
          <p:cNvSpPr/>
          <p:nvPr/>
        </p:nvSpPr>
        <p:spPr>
          <a:xfrm>
            <a:off x="0" y="3500280"/>
            <a:ext cx="3429000" cy="1571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оцијативни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loud Callout 5"/>
          <p:cNvSpPr/>
          <p:nvPr/>
        </p:nvSpPr>
        <p:spPr>
          <a:xfrm>
            <a:off x="2714760" y="4929120"/>
            <a:ext cx="3429000" cy="1571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оцијативни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loud Callout 6"/>
          <p:cNvSpPr/>
          <p:nvPr/>
        </p:nvSpPr>
        <p:spPr>
          <a:xfrm>
            <a:off x="5786280" y="3571920"/>
            <a:ext cx="3357720" cy="1500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размене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Straight Arrow Connector 11"/>
          <p:cNvCxnSpPr/>
          <p:nvPr/>
        </p:nvCxnSpPr>
        <p:spPr>
          <a:xfrm flipH="1">
            <a:off x="2785680" y="2714760"/>
            <a:ext cx="714960" cy="71496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49" name="Straight Arrow Connector 13"/>
          <p:cNvCxnSpPr>
            <a:stCxn id="44" idx="2"/>
          </p:cNvCxnSpPr>
          <p:nvPr/>
        </p:nvCxnSpPr>
        <p:spPr>
          <a:xfrm>
            <a:off x="4500720" y="2714760"/>
            <a:ext cx="72000" cy="228672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50" name="Straight Arrow Connector 15"/>
          <p:cNvCxnSpPr/>
          <p:nvPr/>
        </p:nvCxnSpPr>
        <p:spPr>
          <a:xfrm>
            <a:off x="6643800" y="2785680"/>
            <a:ext cx="429120" cy="78660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loud Callout 3"/>
          <p:cNvSpPr/>
          <p:nvPr/>
        </p:nvSpPr>
        <p:spPr>
          <a:xfrm>
            <a:off x="0" y="981000"/>
            <a:ext cx="4214880" cy="17146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оцијативни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4"/>
          <p:cNvSpPr/>
          <p:nvPr/>
        </p:nvSpPr>
        <p:spPr>
          <a:xfrm>
            <a:off x="4071960" y="2143080"/>
            <a:ext cx="464328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ступ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ступањ је спорији ступа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тику овог механизма одређује  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рви ступа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ircular Arrow 8"/>
          <p:cNvSpPr/>
          <p:nvPr/>
        </p:nvSpPr>
        <p:spPr>
          <a:xfrm rot="2311800">
            <a:off x="3744720" y="1077840"/>
            <a:ext cx="1643040" cy="1357560"/>
          </a:xfrm>
          <a:custGeom>
            <a:avLst/>
            <a:gdLst>
              <a:gd name="textAreaLeft" fmla="*/ 300600 w 1643040"/>
              <a:gd name="textAreaRight" fmla="*/ 1342440 w 1643040"/>
              <a:gd name="textAreaTop" fmla="*/ 258840 h 1357560"/>
              <a:gd name="textAreaBottom" fmla="*/ 1098720 h 1357560"/>
            </a:gdLst>
            <a:ahLst/>
            <a:rect l="textAreaLeft" t="textAreaTop" r="textAreaRight" b="textAreaBottom"/>
            <a:pathLst>
              <a:path w="1643062" h="1357312">
                <a:moveTo>
                  <a:pt x="84832" y="678655"/>
                </a:moveTo>
                <a:lnTo>
                  <a:pt x="84832" y="678655"/>
                </a:lnTo>
                <a:arcTo wR="736699" hR="593824" stAng="-10799995" swAng="9805223"/>
                <a:lnTo>
                  <a:pt x="1587430" y="472907"/>
                </a:lnTo>
                <a:lnTo>
                  <a:pt x="1473398" y="678657"/>
                </a:lnTo>
                <a:lnTo>
                  <a:pt x="1248102" y="472907"/>
                </a:lnTo>
                <a:lnTo>
                  <a:pt x="1317387" y="472907"/>
                </a:lnTo>
                <a:lnTo>
                  <a:pt x="1317387" y="472907"/>
                </a:lnTo>
                <a:arcTo wR="567035" hR="424160" stAng="-1352114" swAng="-9447886"/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Horizontal Scroll 11"/>
          <p:cNvSpPr/>
          <p:nvPr/>
        </p:nvSpPr>
        <p:spPr>
          <a:xfrm>
            <a:off x="142920" y="4429080"/>
            <a:ext cx="5072040" cy="25718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X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 →    [MX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</a:t>
            </a:r>
            <a:r>
              <a:rPr b="0" lang="sr-Latn-C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+   X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спо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X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 +    Y   →    [MX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</a:t>
            </a:r>
            <a:r>
              <a:rPr b="0" lang="sr-Latn-C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]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р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rved Right Arrow 13"/>
          <p:cNvSpPr/>
          <p:nvPr/>
        </p:nvSpPr>
        <p:spPr>
          <a:xfrm rot="1697400">
            <a:off x="2836440" y="2612880"/>
            <a:ext cx="727200" cy="2203560"/>
          </a:xfrm>
          <a:custGeom>
            <a:avLst/>
            <a:gdLst>
              <a:gd name="textAreaLeft" fmla="*/ 97200 w 727200"/>
              <a:gd name="textAreaRight" fmla="*/ 630000 w 727200"/>
              <a:gd name="textAreaTop" fmla="*/ 482760 h 2203560"/>
              <a:gd name="textAreaBottom" fmla="*/ 1630080 h 220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64" stAng="-5400000" swAng="-5400000"/>
                <a:lnTo>
                  <a:pt x="0" y="11246"/>
                </a:lnTo>
                <a:arcTo wR="21600" hR="9464" stAng="10800000" swAng="-3569280"/>
                <a:lnTo>
                  <a:pt x="16200" y="21299"/>
                </a:lnTo>
                <a:lnTo>
                  <a:pt x="21600" y="19818"/>
                </a:lnTo>
                <a:lnTo>
                  <a:pt x="16200" y="17735"/>
                </a:lnTo>
                <a:lnTo>
                  <a:pt x="16200" y="18626"/>
                </a:lnTo>
                <a:arcTo wR="21600" hR="9464" stAng="7230720" swAng="3426922"/>
                <a:lnTo>
                  <a:pt x="96" y="10354"/>
                </a:lnTo>
                <a:arcTo wR="21600" hR="9464" stAng="-10657642" swAng="5257642"/>
                <a:close/>
              </a:path>
              <a:path fill="darkenLess" w="21600" h="21600">
                <a:moveTo>
                  <a:pt x="21600" y="0"/>
                </a:moveTo>
                <a:arcTo wR="21600" hR="9464" stAng="-5400000" swAng="-5400000"/>
                <a:lnTo>
                  <a:pt x="0" y="9464"/>
                </a:lnTo>
                <a:arcTo wR="21600" hR="9464" stAng="10800000" swAng="-142358"/>
                <a:lnTo>
                  <a:pt x="96" y="10354"/>
                </a:lnTo>
                <a:arcTo wR="21600" hR="9464" stAng="-10657642" swAng="5257642"/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оцијативни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475452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Cloud Callout 3"/>
          <p:cNvSpPr/>
          <p:nvPr/>
        </p:nvSpPr>
        <p:spPr>
          <a:xfrm>
            <a:off x="0" y="1000080"/>
            <a:ext cx="4214880" cy="17146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оцијативни процес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4"/>
          <p:cNvSpPr/>
          <p:nvPr/>
        </p:nvSpPr>
        <p:spPr>
          <a:xfrm>
            <a:off x="4071960" y="2000160"/>
            <a:ext cx="4714920" cy="2643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ступ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ступањ је спорији ступа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медијер са повећаним 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оординационим број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тику овог механизма одређује  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рви ступа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Horizontal Scroll 5"/>
          <p:cNvSpPr/>
          <p:nvPr/>
        </p:nvSpPr>
        <p:spPr>
          <a:xfrm>
            <a:off x="214200" y="4643280"/>
            <a:ext cx="6143760" cy="2357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X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 Y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→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X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]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MX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</a:t>
            </a:r>
            <a:r>
              <a:rPr b="0" lang="sr-Latn-C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]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+  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ircular Arrow 6"/>
          <p:cNvSpPr/>
          <p:nvPr/>
        </p:nvSpPr>
        <p:spPr>
          <a:xfrm rot="2311800">
            <a:off x="3458880" y="934920"/>
            <a:ext cx="1643040" cy="1357560"/>
          </a:xfrm>
          <a:custGeom>
            <a:avLst/>
            <a:gdLst>
              <a:gd name="textAreaLeft" fmla="*/ 300600 w 1643040"/>
              <a:gd name="textAreaRight" fmla="*/ 1342440 w 1643040"/>
              <a:gd name="textAreaTop" fmla="*/ 258840 h 1357560"/>
              <a:gd name="textAreaBottom" fmla="*/ 1098720 h 1357560"/>
            </a:gdLst>
            <a:ahLst/>
            <a:rect l="textAreaLeft" t="textAreaTop" r="textAreaRight" b="textAreaBottom"/>
            <a:pathLst>
              <a:path w="1643062" h="1357312">
                <a:moveTo>
                  <a:pt x="84832" y="678655"/>
                </a:moveTo>
                <a:lnTo>
                  <a:pt x="84832" y="678655"/>
                </a:lnTo>
                <a:arcTo wR="736699" hR="593824" stAng="-10799995" swAng="9805223"/>
                <a:lnTo>
                  <a:pt x="1587430" y="472907"/>
                </a:lnTo>
                <a:lnTo>
                  <a:pt x="1473398" y="678657"/>
                </a:lnTo>
                <a:lnTo>
                  <a:pt x="1248102" y="472907"/>
                </a:lnTo>
                <a:lnTo>
                  <a:pt x="1317387" y="472907"/>
                </a:lnTo>
                <a:lnTo>
                  <a:pt x="1317387" y="472907"/>
                </a:lnTo>
                <a:arcTo wR="567035" hR="424160" stAng="-1352114" swAng="-9447886"/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urved Right Arrow 7"/>
          <p:cNvSpPr/>
          <p:nvPr/>
        </p:nvSpPr>
        <p:spPr>
          <a:xfrm rot="1697400">
            <a:off x="2908080" y="2755440"/>
            <a:ext cx="726840" cy="2203560"/>
          </a:xfrm>
          <a:custGeom>
            <a:avLst/>
            <a:gdLst>
              <a:gd name="textAreaLeft" fmla="*/ 97200 w 726840"/>
              <a:gd name="textAreaRight" fmla="*/ 629640 w 726840"/>
              <a:gd name="textAreaTop" fmla="*/ 482760 h 2203560"/>
              <a:gd name="textAreaBottom" fmla="*/ 1630080 h 220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64" stAng="-5400000" swAng="-5400000"/>
                <a:lnTo>
                  <a:pt x="0" y="11246"/>
                </a:lnTo>
                <a:arcTo wR="21600" hR="9464" stAng="10800000" swAng="-3569280"/>
                <a:lnTo>
                  <a:pt x="16200" y="21299"/>
                </a:lnTo>
                <a:lnTo>
                  <a:pt x="21600" y="19818"/>
                </a:lnTo>
                <a:lnTo>
                  <a:pt x="16200" y="17735"/>
                </a:lnTo>
                <a:lnTo>
                  <a:pt x="16200" y="18626"/>
                </a:lnTo>
                <a:arcTo wR="21600" hR="9464" stAng="7230720" swAng="3426922"/>
                <a:lnTo>
                  <a:pt x="96" y="10354"/>
                </a:lnTo>
                <a:arcTo wR="21600" hR="9464" stAng="-10657642" swAng="5257642"/>
                <a:close/>
              </a:path>
              <a:path fill="darkenLess" w="21600" h="21600">
                <a:moveTo>
                  <a:pt x="21600" y="0"/>
                </a:moveTo>
                <a:arcTo wR="21600" hR="9464" stAng="-5400000" swAng="-5400000"/>
                <a:lnTo>
                  <a:pt x="0" y="9464"/>
                </a:lnTo>
                <a:arcTo wR="21600" hR="9464" stAng="10800000" swAng="-142358"/>
                <a:lnTo>
                  <a:pt x="96" y="10354"/>
                </a:lnTo>
                <a:arcTo wR="21600" hR="9464" stAng="-10657642" swAng="5257642"/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2147040" y="5500800"/>
            <a:ext cx="55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646800" y="550080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оцијативни процес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478476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Dusan</cp:lastModifiedBy>
  <dcterms:modified xsi:type="dcterms:W3CDTF">2018-07-25T22:17:01Z</dcterms:modified>
  <cp:revision>123</cp:revision>
  <dc:subject/>
  <dc:title>Slide 1</dc:title>
</cp:coreProperties>
</file>